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DA7-B3FC-424E-A54A-EDD27C5F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8BC-77B4-4F39-9A5B-61F5953D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D26-5569-40B8-8B65-06B7CA32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141-EAEE-4205-A223-37BC832C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13B-7677-42ED-B686-32C85A60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AE3-99AD-4121-8086-31BA3B9A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403-29FB-48C9-B2BF-663F63EB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E8E-331F-46C1-BED9-17D8EDD5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C3C-F201-47B2-AF17-B0B97B4D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8C7-B77D-4C12-8255-288DE0FE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A84-8D88-4224-A903-FE8AAE5F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71E-BE5E-4F50-9656-38F342BC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B45B-ED88-47A7-8256-4DBB347AB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after Commun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calls us together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makes us one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has forgiven our s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gives hope and freed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se Word is proclaim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is revealed as lover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alone has call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refore we offer all that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l we shall be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, O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ur sacrifice of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ccept our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that we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hands were emp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you filled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8:10Z</dcterms:created>
  <dc:creator>Anon Anon</dc:creator>
  <dc:description/>
  <dc:language>en-US</dc:language>
  <cp:lastModifiedBy>Anon Anon</cp:lastModifiedBy>
  <dcterms:modified xsi:type="dcterms:W3CDTF">2005-08-09T05:07:23Z</dcterms:modified>
  <cp:revision>12</cp:revision>
  <dc:subject/>
  <dc:title>Prayer after Communion (SLD-2)</dc:title>
</cp:coreProperties>
</file>